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1977-4D44-4E49-BDB5-5BA2E0A9D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4DF7-CBB8-41C8-8AC6-B50EBF222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44B5-8C1A-412C-A7F4-D1DE1C72C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8C22-0D50-463F-807B-0CCE8B05A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B4661-36A8-4945-8CCC-7B1C3F289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2ED99-87B1-43E3-B613-AAC24AB44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C3F0E-A221-4D4A-A186-DE35AB556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742B2-A41E-486A-8A96-6196564DA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965DC-2092-455B-AE40-6CEB9A109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BECD7-F07F-419D-A176-76EE9A5DC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0CDBF-71F6-4858-8EAE-DAB607A3C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B717-DC8A-4E65-9395-3173BBEEF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042C2-1A80-457A-B9EB-2DF3ECC76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7404A-45CB-4792-AE54-5518AF4A0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02612-F75D-42A2-AC8C-29BBE2516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DC8F2-6E70-426A-9D14-4FBDE243E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ABFFC-CCBB-4D55-B413-82FC36838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09EA-331F-43A2-B6C1-B2FDE5326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1F20-D221-431E-88CD-3ABA35494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2B18-9B0F-4510-8078-5353BAABF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4276-5B0E-4974-8C1C-17C371435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4E93-FE5B-4598-9546-D31EF9E2F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0801-B7CD-49AF-9F29-4B8477A35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F1E3-BD26-4F55-B446-D9584CF83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BC414-B753-44D7-BB3F-853523DF7A61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B548C-B7CA-4E86-B5FC-364BBCB09053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6"/>
          <p:cNvSpPr/>
          <p:nvPr/>
        </p:nvSpPr>
        <p:spPr>
          <a:xfrm>
            <a:off x="900000" y="3133800"/>
            <a:ext cx="741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Электронное   обучающе – контролирующее учебное пособ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1042920" y="122760"/>
            <a:ext cx="7878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Государственное образовательное  учреждение высшего профессионального образования "Ивановская государственная медицинская академия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Министерства здравоохранения Российской Федер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9"/>
          <p:cNvSpPr/>
          <p:nvPr/>
        </p:nvSpPr>
        <p:spPr>
          <a:xfrm>
            <a:off x="2657520" y="1253160"/>
            <a:ext cx="386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.В. Диндяев, С.Ю. Виноград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0"/>
          <p:cNvSpPr/>
          <p:nvPr/>
        </p:nvSpPr>
        <p:spPr>
          <a:xfrm>
            <a:off x="2609640" y="908280"/>
            <a:ext cx="392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афедра гистологии, эмбриологии, цитолог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1"/>
          <p:cNvSpPr/>
          <p:nvPr/>
        </p:nvSpPr>
        <p:spPr>
          <a:xfrm>
            <a:off x="152280" y="6023160"/>
            <a:ext cx="4267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ИвГМА Минздрава РФ,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Диндяев С.В., Виноградов С.Ю.,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2"/>
          <p:cNvSpPr/>
          <p:nvPr/>
        </p:nvSpPr>
        <p:spPr>
          <a:xfrm>
            <a:off x="4952880" y="6023160"/>
            <a:ext cx="3561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Иваново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3012, г. Иваново, Шереметевский пр., д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4859280" y="6453360"/>
            <a:ext cx="252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http:// www.isma.ivanovo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4" descr="logo"/>
          <p:cNvPicPr/>
          <p:nvPr/>
        </p:nvPicPr>
        <p:blipFill>
          <a:blip r:embed="rId1"/>
          <a:stretch/>
        </p:blipFill>
        <p:spPr>
          <a:xfrm>
            <a:off x="79200" y="44280"/>
            <a:ext cx="963720" cy="9637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5" descr="D:\Воспитательная работа\ФОТО-воспит\фото академии\1GQlIzroaOk.jpg"/>
          <p:cNvPicPr/>
          <p:nvPr/>
        </p:nvPicPr>
        <p:blipFill>
          <a:blip r:embed="rId2"/>
          <a:srcRect l="0" t="0" r="10444" b="0"/>
          <a:stretch/>
        </p:blipFill>
        <p:spPr>
          <a:xfrm>
            <a:off x="611280" y="4149720"/>
            <a:ext cx="7993080" cy="1731960"/>
          </a:xfrm>
          <a:prstGeom prst="rect">
            <a:avLst/>
          </a:prstGeom>
          <a:ln w="0">
            <a:noFill/>
          </a:ln>
        </p:spPr>
      </p:pic>
      <p:sp>
        <p:nvSpPr>
          <p:cNvPr id="91" name="Прямоугольник 13"/>
          <p:cNvSpPr/>
          <p:nvPr/>
        </p:nvSpPr>
        <p:spPr>
          <a:xfrm>
            <a:off x="826920" y="1989000"/>
            <a:ext cx="756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репродуктивной систем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нтогенез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900000" y="1452600"/>
            <a:ext cx="7344000" cy="22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</a:rPr>
              <a:t>Авторы: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рофессор кафедры гистологии, эмбриологии, цитологии, д.м.н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индяев Сергей Валерье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зав. кафедрой гистологии, эмбриологии, цитологии, профессор, д.м.н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иноградов Сергей Юрье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</a:rPr>
              <a:t>Авторы электронной версии: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д.м.н. С.В. Диндяев, к.х.н. В.В. Голубе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179280" y="3789360"/>
            <a:ext cx="87854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крофотографии сделаны профессором кафедры гистологии, эмбриологии и цитологии, д.м.н. С.В. Диндяевым с гистологических препаратов кафедральной коллекции при помощи цифровой камеры-окуляра модели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CM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0 (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´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Rectangle 7"/>
          <p:cNvGrpSpPr/>
          <p:nvPr/>
        </p:nvGrpSpPr>
        <p:grpSpPr>
          <a:xfrm>
            <a:off x="92160" y="5211720"/>
            <a:ext cx="8886600" cy="1109880"/>
            <a:chOff x="92160" y="5211720"/>
            <a:chExt cx="8886600" cy="1109880"/>
          </a:xfrm>
        </p:grpSpPr>
        <p:pic>
          <p:nvPicPr>
            <p:cNvPr id="95" name="Rectangle 7" descr=""/>
            <p:cNvPicPr/>
            <p:nvPr/>
          </p:nvPicPr>
          <p:blipFill>
            <a:blip r:embed="rId1"/>
            <a:stretch/>
          </p:blipFill>
          <p:spPr>
            <a:xfrm>
              <a:off x="92160" y="5211720"/>
              <a:ext cx="888660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108000" y="5229360"/>
              <a:ext cx="88567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c00000"/>
                  </a:solidFill>
                  <a:latin typeface="Arial"/>
                </a:rPr>
                <a:t>Предупреждение! </a:t>
              </a: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Все права защищены. Данное пособие защищено авторским правом. Никакая его часть не может быть воспроизведена в какой-либо форме и каким-либо образом, включая копирование, а также не может быть использована в любой информационной системе без разрешения владельцев авторского права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7" name="Picture 8" descr="logo"/>
          <p:cNvPicPr/>
          <p:nvPr/>
        </p:nvPicPr>
        <p:blipFill>
          <a:blip r:embed="rId2"/>
          <a:stretch/>
        </p:blipFill>
        <p:spPr>
          <a:xfrm>
            <a:off x="79200" y="44280"/>
            <a:ext cx="963720" cy="96372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2"/>
          <p:cNvSpPr/>
          <p:nvPr/>
        </p:nvSpPr>
        <p:spPr>
          <a:xfrm>
            <a:off x="1042920" y="115920"/>
            <a:ext cx="7489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репродуктивной систем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нтогенез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4"/>
          <p:cNvSpPr/>
          <p:nvPr/>
        </p:nvSpPr>
        <p:spPr>
          <a:xfrm>
            <a:off x="179280" y="189000"/>
            <a:ext cx="8785440" cy="64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пособии, состоящем из двух частей, представлены современные данные о развитии репродуктивной системы. В первой части рассматриваются вопросы ее пренатального становления: характеристика индифферентной стадии, факторы, определяющие дифференцировку железы по мужскому или женскому типу, гистофизиология половых органов до рождения плода, нарушения внутриутробного развития половой системы (агенезия и дисгенезия гонад, синдром Шерешевского-Тернера, синдром Клайнфельтера, крипторхизм, аномалии  развития матки и маточных труб, гермафродитизм и др.). Вторая часть пособия посвящена постнатальному развитию репродуктивной системы. В ней подробно описываются гистофизиологические процессы, происходящие в мужских и женских половых органах в препубертатный период, период полового созревания. Текстовый материал сопровождается ситуационными задачами и тестовыми вопросами для самопроверки. Микрофотографии в пособии, не имеющие специальной отметки, сделаны профессором кафедры гистологии, эмбриологии и цитологии, д.м.н. С.В. Диндяевым с гистологических препаратов кафедральной коллекции при помощи цифровой камеры-окуляра модели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CM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30 (´10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цензен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. кафедрой патологической анатомии с секционным курсом государственного бюджетного образовательного учреждения высшего профессионального образования «Ивановская государственная медицинская академия» Министерства здравоохранения Российской Федерации, профессор, д.м.н.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кина Елена Александ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. кафедрой гистологии, эмбриологии, цитологии государственного бюджетного образовательного учреждения высшего профессионального образования «Курский государственный медицинский университет» Министерства здравоохранения Российской Федерации, профессор, д.м.н.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ванов Александр Викторо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68360" y="1341360"/>
            <a:ext cx="453528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ндяев Сергей Валерьевич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62 г.р., доктор медицинских наук, профессор кафедры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стологии, эмбриологии и цитологии Ивановской государственной медицинской академии, член-корреспондент РА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ое научное направление: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кциональная морфология биоаминового обеспечения органов женкой репродуктивной системы во время полового цикла и беременност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 более 170 научных и учебно-методических работ, ряда изобретений и рационализаторских предложени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10" descr="D:\Мои рисунки\Диндяев С.В фото\IMG_3168в.jpg"/>
          <p:cNvPicPr/>
          <p:nvPr/>
        </p:nvPicPr>
        <p:blipFill>
          <a:blip r:embed="rId1"/>
          <a:stretch/>
        </p:blipFill>
        <p:spPr>
          <a:xfrm>
            <a:off x="5364000" y="1197000"/>
            <a:ext cx="2978280" cy="41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68360" y="1196640"/>
            <a:ext cx="4619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ноградов Сергей Юрьевич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47 г.р., доктор медицинских наук, профессор, заведующий кафедрой гистологии, эмбриологии и цитологии Ивановской государственной медицинской академии, член-корреспондент РА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ое научное направление: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кциональная морфология нейромедиаторного биоаминового обеспечения процессов адаптации и гомеостаз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 186 научных и 62 учебно-методических работ, 2 изобретений, 44 рационализаторских предложени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7" descr="PB230720"/>
          <p:cNvPicPr/>
          <p:nvPr/>
        </p:nvPicPr>
        <p:blipFill>
          <a:blip r:embed="rId1"/>
          <a:srcRect l="0" t="1038" r="3644" b="0"/>
          <a:stretch/>
        </p:blipFill>
        <p:spPr>
          <a:xfrm>
            <a:off x="5364000" y="1341360"/>
            <a:ext cx="2981520" cy="40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оугольник 1"/>
          <p:cNvSpPr/>
          <p:nvPr/>
        </p:nvSpPr>
        <p:spPr>
          <a:xfrm>
            <a:off x="179280" y="333360"/>
            <a:ext cx="8713800" cy="41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ное пособие предназначено для студентов лечебного и педиатрического факультетов медицинских вузов, изучающих гистологию, эмбриологию и цитолог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езультате освоения материала, представленного в пособии, обучающийся должен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ть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сновные закономерности развития мужской и женской репродуктивных систем человека на основе структурной организации клеток, тканей и органов (ПК-16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ьзоваться учебной, научной, научно-популярной литературой, сетью Интернет для профессиональной деятельности (ПК-9, ПК-31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бъяснять характер отклонений в ходе развития, которые могут привести к формированию вариантов аномалий и пороков (ПК-16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адеть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дико-анатомическим понятийным аппаратом (ПК-9, 31, 32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7" descr="C:\Documents and Settings\Андрей\Рабочий стол\Мама\news-example.jpg"/>
          <p:cNvPicPr/>
          <p:nvPr/>
        </p:nvPicPr>
        <p:blipFill>
          <a:blip r:embed="rId1"/>
          <a:stretch/>
        </p:blipFill>
        <p:spPr>
          <a:xfrm>
            <a:off x="23760" y="109440"/>
            <a:ext cx="1841400" cy="1371600"/>
          </a:xfrm>
          <a:prstGeom prst="rect">
            <a:avLst/>
          </a:prstGeom>
          <a:ln w="0">
            <a:noFill/>
          </a:ln>
        </p:spPr>
      </p:pic>
      <p:pic>
        <p:nvPicPr>
          <p:cNvPr id="106" name="Заголовок 1" descr=""/>
          <p:cNvPicPr/>
          <p:nvPr/>
        </p:nvPicPr>
        <p:blipFill>
          <a:blip r:embed="rId2"/>
          <a:stretch/>
        </p:blipFill>
        <p:spPr>
          <a:xfrm>
            <a:off x="1365120" y="219240"/>
            <a:ext cx="7785360" cy="11887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457200" y="1600200"/>
            <a:ext cx="829152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продуктивное здоровье – это состояние полного физического, умственного, сексуального и социального благополучия, а не только отсутствие болезней во всех сферах, касающихся репродуктивной системы, ее функций и процессов (ВОЗ, 1994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агностика патологии репродуктивной системы – одна из актуальных проблем гинекологии, андрологии и урологии – базируется на знаниях анатомии и гистофизиологии половой системы мужчины и женщин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оровье человека во многом зависит от начальных периодов онтогенеза, когда происходит закладка, формирование и развитие тканей, органов и их систе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астоящем пособии рассматриваются вопросы развития репродуктивной системы в пренатальный (синонимы: антенатальный и внутриутробный; от момента зачатия до начала родов) и постнатальный (от рождения до 15 лет) периоды онтогенеза человек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4"/>
          <p:cNvSpPr/>
          <p:nvPr/>
        </p:nvSpPr>
        <p:spPr>
          <a:xfrm>
            <a:off x="1547640" y="1844640"/>
            <a:ext cx="740592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40" indent="17280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ева в этом окне поместить указатель над заголовком первого раздела и щелкнуть левой кнопкой мыши.  Появится окно изображенное ниже. В этом окне выберите «Только для чтения». На экране Вашего монитора появится презентация с первым раздело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Group 5"/>
          <p:cNvGrpSpPr/>
          <p:nvPr/>
        </p:nvGrpSpPr>
        <p:grpSpPr>
          <a:xfrm>
            <a:off x="4175280" y="2565360"/>
            <a:ext cx="4968360" cy="581040"/>
            <a:chOff x="4175280" y="2565360"/>
            <a:chExt cx="4968360" cy="581040"/>
          </a:xfrm>
        </p:grpSpPr>
        <p:sp>
          <p:nvSpPr>
            <p:cNvPr id="110" name="Text Box 6"/>
            <p:cNvSpPr/>
            <p:nvPr/>
          </p:nvSpPr>
          <p:spPr>
            <a:xfrm>
              <a:off x="4241160" y="2565360"/>
              <a:ext cx="4902480" cy="58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Для просмотра тем, следующих за первой, вы должны ввести пароль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(</a:t>
              </a:r>
              <a:r>
                <a:rPr b="0" i="1" lang="ru-RU" sz="1000" spc="-1" strike="noStrike">
                  <a:solidFill>
                    <a:srgbClr val="000000"/>
                  </a:solidFill>
                  <a:latin typeface="Times New Roman"/>
                </a:rPr>
                <a:t>латинскими буквами</a:t>
              </a: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), который получаете после прохождения соответствуюшего теста предыдущего раздела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и выбрать «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OK</a:t>
              </a: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», а затем «Только для чтения» .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7"/>
            <p:cNvSpPr/>
            <p:nvPr/>
          </p:nvSpPr>
          <p:spPr>
            <a:xfrm>
              <a:off x="4175280" y="2565360"/>
              <a:ext cx="496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Line 8"/>
          <p:cNvSpPr/>
          <p:nvPr/>
        </p:nvSpPr>
        <p:spPr>
          <a:xfrm flipH="1" flipV="1">
            <a:off x="1116000" y="1988640"/>
            <a:ext cx="43344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9" descr="readq"/>
          <p:cNvPicPr/>
          <p:nvPr/>
        </p:nvPicPr>
        <p:blipFill>
          <a:blip r:embed="rId1"/>
          <a:stretch/>
        </p:blipFill>
        <p:spPr>
          <a:xfrm>
            <a:off x="1476360" y="2492280"/>
            <a:ext cx="2592360" cy="1114560"/>
          </a:xfrm>
          <a:prstGeom prst="rect">
            <a:avLst/>
          </a:prstGeom>
          <a:ln w="0">
            <a:noFill/>
          </a:ln>
        </p:spPr>
      </p:pic>
      <p:sp>
        <p:nvSpPr>
          <p:cNvPr id="114" name="AutoShape 10"/>
          <p:cNvSpPr/>
          <p:nvPr/>
        </p:nvSpPr>
        <p:spPr>
          <a:xfrm rot="14567400">
            <a:off x="3456000" y="3465000"/>
            <a:ext cx="361800" cy="146160"/>
          </a:xfrm>
          <a:prstGeom prst="rightArrow">
            <a:avLst>
              <a:gd name="adj1" fmla="val 32741"/>
              <a:gd name="adj2" fmla="val 18043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1"/>
          <p:cNvSpPr/>
          <p:nvPr/>
        </p:nvSpPr>
        <p:spPr>
          <a:xfrm>
            <a:off x="1403280" y="1052640"/>
            <a:ext cx="7489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И РАБОТЕ ПРОГРАММЫ В ОКНЕ "Предупреждение системы безопасности" ВЫБИРАЙТЕ КНОПКУ "Не отключать макросы"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2"/>
          <p:cNvSpPr/>
          <p:nvPr/>
        </p:nvSpPr>
        <p:spPr>
          <a:xfrm>
            <a:off x="0" y="1700280"/>
            <a:ext cx="129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5a33"/>
                </a:solidFill>
                <a:latin typeface="Times New Roman"/>
              </a:rPr>
              <a:t>Пренатальное развит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3"/>
          <p:cNvSpPr/>
          <p:nvPr/>
        </p:nvSpPr>
        <p:spPr>
          <a:xfrm>
            <a:off x="0" y="2349360"/>
            <a:ext cx="1258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5a33"/>
                </a:solidFill>
                <a:latin typeface="Times New Roman"/>
              </a:rPr>
              <a:t>Постнатальное развит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5" descr="logo"/>
          <p:cNvPicPr/>
          <p:nvPr/>
        </p:nvPicPr>
        <p:blipFill>
          <a:blip r:embed="rId2"/>
          <a:stretch/>
        </p:blipFill>
        <p:spPr>
          <a:xfrm>
            <a:off x="79200" y="44280"/>
            <a:ext cx="963720" cy="96372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2"/>
          <p:cNvSpPr/>
          <p:nvPr/>
        </p:nvSpPr>
        <p:spPr>
          <a:xfrm>
            <a:off x="1042920" y="115920"/>
            <a:ext cx="7489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репродуктивной систем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нтогенез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3"/>
          <p:cNvSpPr/>
          <p:nvPr/>
        </p:nvSpPr>
        <p:spPr>
          <a:xfrm>
            <a:off x="-36360" y="2900520"/>
            <a:ext cx="143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5a33"/>
                </a:solidFill>
                <a:latin typeface="Times New Roman"/>
              </a:rPr>
              <a:t>Тест на проверку зн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31T16:28:47Z</dcterms:created>
  <dc:creator>Сергей</dc:creator>
  <dc:description/>
  <dc:language>en-US</dc:language>
  <cp:lastModifiedBy>uzer</cp:lastModifiedBy>
  <dcterms:modified xsi:type="dcterms:W3CDTF">2014-09-03T17:20:07Z</dcterms:modified>
  <cp:revision>50</cp:revision>
  <dc:subject/>
  <dc:title>Слайд 1</dc:title>
</cp:coreProperties>
</file>