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708-013E-46FD-8CAB-4F6BFD96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4C42-CA0C-447B-A7F4-E5E27296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A2B0-3EC8-409F-9734-4286CF65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7148-60D9-4F35-9DD9-5E6E4AE5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DCA7-629A-4BFB-BF10-03C9ED1C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2AA4-35A8-4450-A2EC-42FEE4BA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AD5B-D67E-4792-BF49-882C2B3F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C5D9-9DE0-40A9-9597-E2B59DA5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75AB-E715-4E22-929E-0234BD81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E8CB-C43C-45B9-A403-F1E98B42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4FA1-F04E-40EF-B27E-D8EF7BA0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C054-C48B-4F57-80B2-51FAB05B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A7EB-A00B-4733-94DA-300DFA3C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0E9A-C817-4935-B94B-FF12B62C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1299-7890-401D-BB49-5260653E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4CCD-0990-4330-B5FD-D5B406BF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211B-996C-4109-AE74-60E0EA3A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D25-7ED2-4C4B-8F6E-D16D04CC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AE6F-B0C7-471D-8150-36EEF12F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389-0666-4907-A5C4-2FB69A8C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3DE-D7D4-46E8-81C4-44DC4FAD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EC54-6933-4E60-A600-71459D47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A13E-C760-486C-BFEA-3A3A32A4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9699-4822-436C-8EF7-FE77AD38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B8E1-478C-4EED-83F4-001BBE90FD9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DC0F-823B-405D-950B-E049C4144B6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900000" y="313380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лектронное   обучающе – контролирующее учебное пособ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042920" y="122760"/>
            <a:ext cx="787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сударственное образовательное  учреждение высшего профессионального образования "Ивановская государственная медицинская академи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инистерства здравоохранения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657520" y="1253160"/>
            <a:ext cx="38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 Диндяев, С.Ю. Виногра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609640" y="908280"/>
            <a:ext cx="392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федра гистологии, эмбриологии, цит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152280" y="6023160"/>
            <a:ext cx="426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ИвГМА Минздрава РФ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Диндяев С.В., Виноградов С.Ю.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4952880" y="6023160"/>
            <a:ext cx="356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Иваново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3012, г. Иваново, Шереметевский пр., д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4859280" y="645336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ttp:// www.isma.ivanovo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logo"/>
          <p:cNvPicPr/>
          <p:nvPr/>
        </p:nvPicPr>
        <p:blipFill>
          <a:blip r:embed="rId1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D:\Воспитательная работа\ФОТО-воспит\фото академии\1GQlIzroaOk.jpg"/>
          <p:cNvPicPr/>
          <p:nvPr/>
        </p:nvPicPr>
        <p:blipFill>
          <a:blip r:embed="rId2"/>
          <a:srcRect l="0" t="0" r="10444" b="0"/>
          <a:stretch/>
        </p:blipFill>
        <p:spPr>
          <a:xfrm>
            <a:off x="611280" y="4149720"/>
            <a:ext cx="7993080" cy="17319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3"/>
          <p:cNvSpPr/>
          <p:nvPr/>
        </p:nvSpPr>
        <p:spPr>
          <a:xfrm>
            <a:off x="826920" y="198900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900000" y="1452600"/>
            <a:ext cx="7344000" cy="22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Авторы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фессор кафедры гистологии, эмбриологии, цитологии, д.м.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ндяев Сергей Вале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в. кафедрой гистологии, эмбриологии, цитологии, профессор, д.м.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ноградов Сергей Ю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Авторы электронной версии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.м.н. С.В. Диндяев, к.х.н. В.В. Голубе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79280" y="3789360"/>
            <a:ext cx="878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фотографии сделаны профессором кафедры гистологии, эмбриологии и цитологии, д.м.н. С.В. Диндяевым с гистологических препаратов кафедральной коллекции при помощи цифровой камеры-окуляра модели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M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Rectangle 7"/>
          <p:cNvGrpSpPr/>
          <p:nvPr/>
        </p:nvGrpSpPr>
        <p:grpSpPr>
          <a:xfrm>
            <a:off x="92160" y="5211720"/>
            <a:ext cx="8886600" cy="1109880"/>
            <a:chOff x="92160" y="5211720"/>
            <a:chExt cx="8886600" cy="1109880"/>
          </a:xfrm>
        </p:grpSpPr>
        <p:pic>
          <p:nvPicPr>
            <p:cNvPr id="95" name="Rectangle 7" descr=""/>
            <p:cNvPicPr/>
            <p:nvPr/>
          </p:nvPicPr>
          <p:blipFill>
            <a:blip r:embed="rId1"/>
            <a:stretch/>
          </p:blipFill>
          <p:spPr>
            <a:xfrm>
              <a:off x="92160" y="5211720"/>
              <a:ext cx="8886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08000" y="5229360"/>
              <a:ext cx="8856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</a:rPr>
                <a:t>Предупреждение!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се права защищены. Данное пособие защищено авторским правом. Никакая его часть не может быть воспроизведена в какой-либо форме и каким-либо образом, включая копирование, а также не может быть использована в любой информационной системе без разрешения владельцев авторского прав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8" descr="logo"/>
          <p:cNvPicPr/>
          <p:nvPr/>
        </p:nvPicPr>
        <p:blipFill>
          <a:blip r:embed="rId2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42920" y="115920"/>
            <a:ext cx="748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79280" y="189000"/>
            <a:ext cx="8785440" cy="64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особии, состоящем из двух частей, представлены современные данные о развитии репродуктивной системы. В первой части рассматриваются вопросы ее пренатального становления: характеристика индифферентной стадии, факторы, определяющие дифференцировку железы по мужскому или женскому типу, гистофизиология половых органов до рождения плода, нарушения внутриутробного развития половой системы (агенезия и дисгенезия гонад, синдром Шерешевского-Тернера, синдром Клайнфельтера, крипторхизм, аномалии  развития матки и маточных труб, гермафродитизм и др.). Вторая часть пособия посвящена постнатальному развитию репродуктивной системы. В ней подробно описываются гистофизиологические процессы, происходящие в мужских и женских половых органах в препубертатный период, период полового созревания. Текстовый материал сопровождается ситуационными задачами и тестовыми вопросами для самопроверки. Микрофотографии в пособии, не имеющие специальной отметки, сделаны профессором кафедры гистологии, эмбриологии и цитологии, д.м.н. С.В. Диндяевым с гистологических препаратов кафедральной коллекции при помощи цифровой камеры-окуляра модел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30 (´1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ценз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 кафедрой патологической анатомии с секционным курсом государственного бюджетного образовательного учреждения высшего профессионального образования «Ивановская государственная медицинская академия» Министерства здравоохранения Российской Федерации, профессор, д.м.н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ина Еле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 кафедрой гистологии, эмбриологии, цитологии государственного бюджетного образовательного учреждения высшего профессионального образования «Курский государственный медицинский университет» Министерства здравоохранения Российской Федерации, профессор, д.м.н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 Александр Викто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45352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дяев Сергей Валерьевич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2 г.р., доктор медицинских наук, профессор кафедр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стологии, эмбриологии и цитологии Ивановской государственной медицинской академии, член-корреспондент РА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научное направле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морфология биоаминового обеспечения органов женкой репродуктивной системы во время полового цикла и беремен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более 170 научных и учебно-методических работ, ряда изобретений и рационализаторских пред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0" descr="D:\Мои рисунки\Диндяев С.В фото\IMG_3168в.jpg"/>
          <p:cNvPicPr/>
          <p:nvPr/>
        </p:nvPicPr>
        <p:blipFill>
          <a:blip r:embed="rId1"/>
          <a:stretch/>
        </p:blipFill>
        <p:spPr>
          <a:xfrm>
            <a:off x="5364000" y="1197000"/>
            <a:ext cx="29782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градов Сергей Юрьевич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7 г.р., доктор медицинских наук, профессор, заведующий кафедрой гистологии, эмбриологии и цитологии Ивановской государственной медицинской академии, член-корреспондент РА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научное направле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морфология нейромедиаторного биоаминового обеспечения процессов адаптации и гомеоста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186 научных и 62 учебно-методических работ, 2 изобретений, 44 рационализаторских пред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7" descr="PB230720"/>
          <p:cNvPicPr/>
          <p:nvPr/>
        </p:nvPicPr>
        <p:blipFill>
          <a:blip r:embed="rId1"/>
          <a:srcRect l="0" t="1038" r="3644" b="0"/>
          <a:stretch/>
        </p:blipFill>
        <p:spPr>
          <a:xfrm>
            <a:off x="5364000" y="1341360"/>
            <a:ext cx="298152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179280" y="333360"/>
            <a:ext cx="871380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пособие предназначено для студентов лечебного и педиатрического факультетов медицинских вузов, изучающих гистологию, эмбриологию и цитолог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освоения материала, представленного в пособии, обучающийся долж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ые закономерности развития мужской и женской репродуктивных систем человека на основе структурной организации клеток, тканей и органов (ПК-1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учебной, научной, научно-популярной литературой, сетью Интернет для профессиональной деятельности (ПК-9, ПК-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ять характер отклонений в ходе развития, которые могут привести к формированию вариантов аномалий и пороков (ПК-1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ико-анатомическим понятийным аппаратом (ПК-9, 31, 3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C:\Documents and Settings\Андрей\Рабочий стол\Мама\news-example.jpg"/>
          <p:cNvPicPr/>
          <p:nvPr/>
        </p:nvPicPr>
        <p:blipFill>
          <a:blip r:embed="rId1"/>
          <a:stretch/>
        </p:blipFill>
        <p:spPr>
          <a:xfrm>
            <a:off x="23760" y="109440"/>
            <a:ext cx="184140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1365120" y="219240"/>
            <a:ext cx="7785360" cy="118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600200"/>
            <a:ext cx="82915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тивное здоровье – это состояние полного физического, умственного, сексуального и социального благополучия, а не только отсутствие болезней во всех сферах, касающихся репродуктивной системы, ее функций и процессов (ВОЗ, 1994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патологии репродуктивной системы – одна из актуальных проблем гинекологии, андрологии и урологии – базируется на знаниях анатомии и гистофизиологии половой системы мужчины и женщи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человека во многом зависит от начальных периодов онтогенеза, когда происходит закладка, формирование и развитие тканей, органов и их сист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м пособии рассматриваются вопросы развития репродуктивной системы в пренатальный (синонимы: антенатальный и внутриутробный; от момента зачатия до начала родов) и постнатальный (от рождения до 15 лет) периоды онтогенеза челове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547640" y="1844640"/>
            <a:ext cx="74059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1728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ва в этом окне поместить указатель над заголовком первого раздела и щелкнуть левой кнопкой мыши.  Появится окно изображенное ниже. В этом окне выберите «Только для чтения». На экране Вашего монитора появится презентация с первым разд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4175280" y="2565360"/>
            <a:ext cx="4968360" cy="581040"/>
            <a:chOff x="4175280" y="2565360"/>
            <a:chExt cx="4968360" cy="581040"/>
          </a:xfrm>
        </p:grpSpPr>
        <p:sp>
          <p:nvSpPr>
            <p:cNvPr id="110" name="Text Box 6"/>
            <p:cNvSpPr/>
            <p:nvPr/>
          </p:nvSpPr>
          <p:spPr>
            <a:xfrm>
              <a:off x="4241160" y="2565360"/>
              <a:ext cx="490248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Для просмотра тем, следующих за первой, вы должны ввести пароль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</a:rPr>
                <a:t>латинскими буквами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), который получаете после прохождения соответствуюшего теста предыдущего раздела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и выбрать «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», а затем «Только для чтения» .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7"/>
            <p:cNvSpPr/>
            <p:nvPr/>
          </p:nvSpPr>
          <p:spPr>
            <a:xfrm>
              <a:off x="4175280" y="2565360"/>
              <a:ext cx="496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Line 8"/>
          <p:cNvSpPr/>
          <p:nvPr/>
        </p:nvSpPr>
        <p:spPr>
          <a:xfrm flipH="1" flipV="1">
            <a:off x="1116000" y="1988640"/>
            <a:ext cx="433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readq"/>
          <p:cNvPicPr/>
          <p:nvPr/>
        </p:nvPicPr>
        <p:blipFill>
          <a:blip r:embed="rId1"/>
          <a:stretch/>
        </p:blipFill>
        <p:spPr>
          <a:xfrm>
            <a:off x="1476360" y="2492280"/>
            <a:ext cx="2592360" cy="11145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0"/>
          <p:cNvSpPr/>
          <p:nvPr/>
        </p:nvSpPr>
        <p:spPr>
          <a:xfrm rot="14567400">
            <a:off x="3456000" y="3465000"/>
            <a:ext cx="361800" cy="146160"/>
          </a:xfrm>
          <a:prstGeom prst="rightArrow">
            <a:avLst>
              <a:gd name="adj1" fmla="val 32741"/>
              <a:gd name="adj2" fmla="val 1804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1403280" y="1052640"/>
            <a:ext cx="748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РАБОТЕ ПРОГРАММЫ В ОКНЕ "Предупреждение системы безопасности" ВЫБИРАЙТЕ КНОПКУ "Не отключать макросы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0" y="17002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Пренат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2349360"/>
            <a:ext cx="125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Постнат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logo"/>
          <p:cNvPicPr/>
          <p:nvPr/>
        </p:nvPicPr>
        <p:blipFill>
          <a:blip r:embed="rId2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42920" y="115920"/>
            <a:ext cx="748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-36360" y="290052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Тест на проверку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6:28:47Z</dcterms:created>
  <dc:creator>Сергей</dc:creator>
  <dc:description/>
  <dc:language>en-US</dc:language>
  <cp:lastModifiedBy>uzer</cp:lastModifiedBy>
  <dcterms:modified xsi:type="dcterms:W3CDTF">2014-09-03T17:20:07Z</dcterms:modified>
  <cp:revision>50</cp:revision>
  <dc:subject/>
  <dc:title>Слайд 1</dc:title>
</cp:coreProperties>
</file>