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C66-ABD2-48F5-B929-3DA5C78E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7B9-3700-42E1-8A89-52249403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F7D2-71EE-4A71-9CF0-083422762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7713-4425-42DE-BA33-48AE59B8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E600-1CA2-4538-BAF9-BABF3AA4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3532-A149-4A4D-B03E-C7EDAFC3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8D37-A667-4A01-BE4B-39CFBEE7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797F-EB5D-4A8E-857E-D3603F1A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1D8B-6720-4669-97F2-B5CD3DB9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CDC0-60EC-40BB-BDAF-DE2C6A97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D1F7-27CA-4975-92AC-55EFC51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809-7CA9-46FD-BCC5-90BBF1718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E116-5EED-4904-A9D2-AA95C249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4F6-138A-4A4B-A382-4CE9D282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B4B5-D385-42F9-8882-89483B74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D6C0-B35E-49DD-8083-0BAFF092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E44A-0EEE-491F-9CAA-FD3A04F9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C3E-3477-4EB6-9313-D888CC40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4435-65CA-4BEA-89C5-10DC4ACB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34A-8E9C-4E67-AF1E-2BB5FC51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4290-4D19-4705-938E-10A90532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1AD-4EF5-40AD-84FD-ED4AAC18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693-BF31-4B31-8718-3DB87B1F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5C3-3773-44C4-AE72-3CC5E6D4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6B31-DB46-4493-A9F8-F7DB7278FB94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7D2B-BC47-40DB-ACBC-CD6124BDFF1D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6"/>
          <p:cNvSpPr/>
          <p:nvPr/>
        </p:nvSpPr>
        <p:spPr>
          <a:xfrm>
            <a:off x="900000" y="3133800"/>
            <a:ext cx="74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лектронное   обучающе – контролирующее учебное пособ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042920" y="122760"/>
            <a:ext cx="787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сударственное образовательное  учреждение высшего профессионального образования "Ивановская государственная медицинская академия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нистерства здравоохранения 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657520" y="1253160"/>
            <a:ext cx="386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Диндяев, С.Ю. Виногра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9640" y="908280"/>
            <a:ext cx="392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афедра гистологии, эмбриологии, цит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52280" y="6023160"/>
            <a:ext cx="42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ИвГМА Минздрава РФ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Диндяев С.В., Виноградов С.Ю.,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4952880" y="6023160"/>
            <a:ext cx="35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Иваново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012, г. Иваново, Шереметевский пр., д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4859280" y="645336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http:// www.isma.ivanov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4" descr="logo"/>
          <p:cNvPicPr/>
          <p:nvPr/>
        </p:nvPicPr>
        <p:blipFill>
          <a:blip r:embed="rId1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5" descr="D:\Воспитательная работа\ФОТО-воспит\фото академии\1GQlIzroaOk.jpg"/>
          <p:cNvPicPr/>
          <p:nvPr/>
        </p:nvPicPr>
        <p:blipFill>
          <a:blip r:embed="rId2"/>
          <a:srcRect l="0" t="0" r="10444" b="0"/>
          <a:stretch/>
        </p:blipFill>
        <p:spPr>
          <a:xfrm>
            <a:off x="611280" y="4149720"/>
            <a:ext cx="7993080" cy="17319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3"/>
          <p:cNvSpPr/>
          <p:nvPr/>
        </p:nvSpPr>
        <p:spPr>
          <a:xfrm>
            <a:off x="826920" y="1989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900000" y="1452600"/>
            <a:ext cx="734400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фессор кафедры гистологии, эмбриологии, цитологии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индяев Сергей Вале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в. кафедрой гистологии, эмбриологии, цитологии, профессор, д.м.н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иноградов Сергей Юрь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Авторы электронной версии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.м.н. С.В. Диндяев, к.х.н. В.В. Голубе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79280" y="3789360"/>
            <a:ext cx="8785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фотографии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CM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0 (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Rectangle 7"/>
          <p:cNvGrpSpPr/>
          <p:nvPr/>
        </p:nvGrpSpPr>
        <p:grpSpPr>
          <a:xfrm>
            <a:off x="92160" y="5211720"/>
            <a:ext cx="8886600" cy="1109880"/>
            <a:chOff x="92160" y="5211720"/>
            <a:chExt cx="8886600" cy="1109880"/>
          </a:xfrm>
        </p:grpSpPr>
        <p:pic>
          <p:nvPicPr>
            <p:cNvPr id="95" name="Rectangle 7" descr=""/>
            <p:cNvPicPr/>
            <p:nvPr/>
          </p:nvPicPr>
          <p:blipFill>
            <a:blip r:embed="rId1"/>
            <a:stretch/>
          </p:blipFill>
          <p:spPr>
            <a:xfrm>
              <a:off x="92160" y="5211720"/>
              <a:ext cx="888660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08000" y="5229360"/>
              <a:ext cx="8856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00000"/>
                  </a:solidFill>
                  <a:latin typeface="Arial"/>
                </a:rPr>
                <a:t>Предупреждение!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Все права защищены. Данное пособие защищено авторским правом. Никакая его часть не может быть воспроизведена в какой-либо форме и каким-либо образом, включая копирование, а также не может быть использована в любой информационной системе без разрешения владельцев авторского права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8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179280" y="189000"/>
            <a:ext cx="8785440" cy="64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собии, состоящем из двух частей, представлены современные данные о развитии репродуктивной системы. В первой части рассматриваются вопросы ее пренатального становления: характеристика индифферентной стадии, факторы, определяющие дифференцировку железы по мужскому или женскому типу, гистофизиология половых органов до рождения плода, нарушения внутриутробного развития половой системы (агенезия и дисгенезия гонад, синдром Шерешевского-Тернера, синдром Клайнфельтера, крипторхизм, аномалии  развития матки и маточных труб, гермафродитизм и др.). Вторая часть пособия посвящена постнатальному развитию репродуктивной системы. В ней подробно описываются гистофизиологические процессы, происходящие в мужских и женских половых органах в препубертатный период, период полового созревания. Текстовый материал сопровождается ситуационными задачами и тестовыми вопросами для самопроверки. Микрофотографии в пособии, не имеющие специальной отметки, сделаны профессором кафедры гистологии, эмбриологии и цитологии, д.м.н. С.В. Диндяевым с гистологических препаратов кафедральной коллекции при помощи цифровой камеры-окуляра моде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C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30 (´1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ценз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патологической анатомии с секционным курсом государственного бюджетного образовательного учреждения высшего профессионального образования «Ивановская государственная медицинская академия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ина Еле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. кафедрой гистологии, эмбриологии, цитологии государственного бюджетного образовательного учреждения высшего профессионального образования «Курский государственный медицинский университет» Министерства здравоохранения Российской Федерации, профессор, д.м.н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ванов Александр Виктор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45352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дяев Сергей Вале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.р., доктор медицинских наук, профессор кафедр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биоаминового обеспечения органов женкой репродуктивной системы во время полового цикла и беремен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более 170 научных и учебно-методических работ, ряда изобретений и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D:\Мои рисунки\Диндяев С.В фото\IMG_3168в.jpg"/>
          <p:cNvPicPr/>
          <p:nvPr/>
        </p:nvPicPr>
        <p:blipFill>
          <a:blip r:embed="rId1"/>
          <a:stretch/>
        </p:blipFill>
        <p:spPr>
          <a:xfrm>
            <a:off x="5364000" y="1197000"/>
            <a:ext cx="297828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оградов Сергей Юрьевич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47 г.р., доктор медицинских наук, профессор, заведующий кафедрой гистологии, эмбриологии и цитологии Ивановской государственной медицинской академии, член-корреспондент РА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е научное направление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ьная морфология нейромедиаторного биоаминового обеспечения процессов адаптации и гомеостаз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186 научных и 62 учебно-методических работ, 2 изобретений, 44 рационализаторских предлож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7" descr="PB230720"/>
          <p:cNvPicPr/>
          <p:nvPr/>
        </p:nvPicPr>
        <p:blipFill>
          <a:blip r:embed="rId1"/>
          <a:srcRect l="0" t="1038" r="3644" b="0"/>
          <a:stretch/>
        </p:blipFill>
        <p:spPr>
          <a:xfrm>
            <a:off x="5364000" y="1341360"/>
            <a:ext cx="298152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179280" y="333360"/>
            <a:ext cx="871380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ое пособие предназначено для студентов лечебного и педиатрического факультетов медицинских вузов, изучающих гистологию, эмбриологию и цитоло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освоения материала, представленного в пособии, обучающийся долже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сновные закономерности развития мужской и женской репродуктивных систем человека на основе структурной организации клеток, тканей и орган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оваться учебной, научной, научно-популярной литературой, сетью Интернет для профессиональной деятельности (ПК-9, ПК-3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ять характер отклонений в ходе развития, которые могут привести к формированию вариантов аномалий и пороков (ПК-1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дико-анатомическим понятийным аппаратом (ПК-9, 31, 32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C:\Documents and Settings\Андрей\Рабочий стол\Мама\news-example.jpg"/>
          <p:cNvPicPr/>
          <p:nvPr/>
        </p:nvPicPr>
        <p:blipFill>
          <a:blip r:embed="rId1"/>
          <a:stretch/>
        </p:blipFill>
        <p:spPr>
          <a:xfrm>
            <a:off x="23760" y="109440"/>
            <a:ext cx="184140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1365120" y="219240"/>
            <a:ext cx="7785360" cy="1188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9152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ое здоровье – это состояние полного физического, умственного, сексуального и социального благополучия, а не только отсутствие болезней во всех сферах, касающихся репродуктивной системы, ее функций и процессов (ВОЗ, 1994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ностика патологии репродуктивной системы – одна из актуальных проблем гинекологии, андрологии и урологии – базируется на знаниях анатомии и гистофизиологии половой системы мужчины и женщи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 человека во многом зависит от начальных периодов онтогенеза, когда происходит закладка, формирование и развитие тканей, органов и их сист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м пособии рассматриваются вопросы развития репродуктивной системы в пренатальный (синонимы: антенатальный и внутриутробный; от момента зачатия до начала родов) и постнатальный (от рождения до 15 лет) периоды онтогенеза человек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1547640" y="1844640"/>
            <a:ext cx="740592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40" indent="1728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ва в этом окне поместить указатель над заголовком первого раздела и щелкнуть левой кнопкой мыши.  Появится окно изображенное ниже. В этом окне выберите «Только для чтения». На экране Вашего монитора появится презентация с первым разд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5"/>
          <p:cNvGrpSpPr/>
          <p:nvPr/>
        </p:nvGrpSpPr>
        <p:grpSpPr>
          <a:xfrm>
            <a:off x="4175280" y="2565360"/>
            <a:ext cx="4968360" cy="581040"/>
            <a:chOff x="4175280" y="2565360"/>
            <a:chExt cx="4968360" cy="581040"/>
          </a:xfrm>
        </p:grpSpPr>
        <p:sp>
          <p:nvSpPr>
            <p:cNvPr id="110" name="Text Box 6"/>
            <p:cNvSpPr/>
            <p:nvPr/>
          </p:nvSpPr>
          <p:spPr>
            <a:xfrm>
              <a:off x="4241160" y="2565360"/>
              <a:ext cx="49024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Для просмотра тем, следующих за первой, вы должны ввести пароль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</a:rPr>
                <a:t>латинскими буквами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), который получаете после прохождения соответствуюшего теста предыдущего раздела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и выбрать «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K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», а затем «Только для чтения» 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"/>
            <p:cNvSpPr/>
            <p:nvPr/>
          </p:nvSpPr>
          <p:spPr>
            <a:xfrm>
              <a:off x="4175280" y="2565360"/>
              <a:ext cx="49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Line 8"/>
          <p:cNvSpPr/>
          <p:nvPr/>
        </p:nvSpPr>
        <p:spPr>
          <a:xfrm flipH="1" flipV="1">
            <a:off x="1116000" y="1988640"/>
            <a:ext cx="4334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readq"/>
          <p:cNvPicPr/>
          <p:nvPr/>
        </p:nvPicPr>
        <p:blipFill>
          <a:blip r:embed="rId1"/>
          <a:stretch/>
        </p:blipFill>
        <p:spPr>
          <a:xfrm>
            <a:off x="1476360" y="2492280"/>
            <a:ext cx="2592360" cy="111456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0"/>
          <p:cNvSpPr/>
          <p:nvPr/>
        </p:nvSpPr>
        <p:spPr>
          <a:xfrm rot="14567400">
            <a:off x="3456000" y="3465000"/>
            <a:ext cx="361800" cy="146160"/>
          </a:xfrm>
          <a:prstGeom prst="rightArrow">
            <a:avLst>
              <a:gd name="adj1" fmla="val 32741"/>
              <a:gd name="adj2" fmla="val 1804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403280" y="1052640"/>
            <a:ext cx="7489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РАБОТЕ ПРОГРАММЫ В ОКНЕ "Предупреждение системы безопасности" ВЫБИРАЙТЕ КНОПКУ "Не отключать макросы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ре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234936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Постнатальное разви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"/>
          <p:cNvPicPr/>
          <p:nvPr/>
        </p:nvPicPr>
        <p:blipFill>
          <a:blip r:embed="rId2"/>
          <a:stretch/>
        </p:blipFill>
        <p:spPr>
          <a:xfrm>
            <a:off x="79200" y="44280"/>
            <a:ext cx="963720" cy="963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42920" y="115920"/>
            <a:ext cx="7489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продуктивной 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нтогене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-36360" y="2900520"/>
            <a:ext cx="143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5a33"/>
                </a:solidFill>
                <a:latin typeface="Times New Roman"/>
              </a:rPr>
              <a:t>Тест на проверку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31T16:28:47Z</dcterms:created>
  <dc:creator>Сергей</dc:creator>
  <dc:description/>
  <dc:language>en-US</dc:language>
  <cp:lastModifiedBy>uzer</cp:lastModifiedBy>
  <dcterms:modified xsi:type="dcterms:W3CDTF">2014-09-03T17:20:07Z</dcterms:modified>
  <cp:revision>50</cp:revision>
  <dc:subject/>
  <dc:title>Слайд 1</dc:title>
</cp:coreProperties>
</file>