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558D-1479-404F-8327-0ABDDA3D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C183-556B-4D91-B0A8-7C828101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DB74-F1BE-4C2A-8402-B6AB5213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214F-8102-4573-87CC-78AB75F38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0B46-C0C1-4503-9450-7B26226DB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35A7-A6EE-4807-805C-51B68ABB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7685-4582-41C7-A967-67AAC74A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9668-B524-4A80-8875-DC2472EB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5F3E-7160-470B-B21A-B197AD28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4EE9-E565-406C-A493-61BE1C52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C102-01C6-4811-81D5-92DB01BD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BB92-0B91-416E-8A49-95C6AAAD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DF04-4960-4869-AD9D-F24EC481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643A-9BDC-496F-B448-58AFCB05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49A0-037A-4767-83CA-110DDC3C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98BC-4C28-4E39-91BC-9E8E4386F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2901-C6C9-40CE-93DD-75B2239F6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9D8D-663C-48E3-AA98-100681D3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AAAD-AAE2-45A4-951E-8E4149B1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9DAA-CB02-4717-A217-D9540BA0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962F-248B-4764-A1C4-D59817B1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0367-E11E-4146-9A53-60E3DE3F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C8EA-5384-4EBB-AE1A-1A86F1AE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AEFE-1FB1-4A77-BD9A-32ADAD83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946A-A049-4C72-80FA-762AE85CBFE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6C41-7897-48BF-8C41-67071468310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6"/>
          <p:cNvSpPr/>
          <p:nvPr/>
        </p:nvSpPr>
        <p:spPr>
          <a:xfrm>
            <a:off x="900000" y="313380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лектронное   обучающе – контролирующее учебное пособ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1042920" y="122760"/>
            <a:ext cx="787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осударственное образовательное  учреждение высшего профессионального образования "Ивановская государственная медицинская академия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инистерства здравоохранения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657520" y="1253160"/>
            <a:ext cx="386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В. Диндяев, С.Ю. Виногра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2609640" y="908280"/>
            <a:ext cx="392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федра гистологии, эмбриологии, цит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152280" y="6023160"/>
            <a:ext cx="426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ИвГМА Минздрава РФ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Диндяев С.В., Виноградов С.Ю.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4952880" y="6023160"/>
            <a:ext cx="356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Иваново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3012, г. Иваново, Шереметевский пр., д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4859280" y="645336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http:// www.isma.ivanovo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4" descr="logo"/>
          <p:cNvPicPr/>
          <p:nvPr/>
        </p:nvPicPr>
        <p:blipFill>
          <a:blip r:embed="rId1"/>
          <a:stretch/>
        </p:blipFill>
        <p:spPr>
          <a:xfrm>
            <a:off x="79200" y="44280"/>
            <a:ext cx="963720" cy="963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D:\Воспитательная работа\ФОТО-воспит\фото академии\1GQlIzroaOk.jpg"/>
          <p:cNvPicPr/>
          <p:nvPr/>
        </p:nvPicPr>
        <p:blipFill>
          <a:blip r:embed="rId2"/>
          <a:srcRect l="0" t="0" r="10444" b="0"/>
          <a:stretch/>
        </p:blipFill>
        <p:spPr>
          <a:xfrm>
            <a:off x="611280" y="4149720"/>
            <a:ext cx="7993080" cy="173196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3"/>
          <p:cNvSpPr/>
          <p:nvPr/>
        </p:nvSpPr>
        <p:spPr>
          <a:xfrm>
            <a:off x="826920" y="198900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продуктивной систе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нтогене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900000" y="1452600"/>
            <a:ext cx="7344000" cy="22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Авторы: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фессор кафедры гистологии, эмбриологии, цитологии, д.м.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индяев Сергей Валер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в. кафедрой гистологии, эмбриологии, цитологии, профессор, д.м.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иноградов Сергей Юр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Авторы электронной версии: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.м.н. С.В. Диндяев, к.х.н. В.В. Голубе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79280" y="3789360"/>
            <a:ext cx="8785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фотографии сделаны профессором кафедры гистологии, эмбриологии и цитологии, д.м.н. С.В. Диндяевым с гистологических препаратов кафедральной коллекции при помощи цифровой камеры-окуляра модели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M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0 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Rectangle 7"/>
          <p:cNvGrpSpPr/>
          <p:nvPr/>
        </p:nvGrpSpPr>
        <p:grpSpPr>
          <a:xfrm>
            <a:off x="92160" y="5211720"/>
            <a:ext cx="8886600" cy="1109880"/>
            <a:chOff x="92160" y="5211720"/>
            <a:chExt cx="8886600" cy="1109880"/>
          </a:xfrm>
        </p:grpSpPr>
        <p:pic>
          <p:nvPicPr>
            <p:cNvPr id="95" name="Rectangle 7" descr=""/>
            <p:cNvPicPr/>
            <p:nvPr/>
          </p:nvPicPr>
          <p:blipFill>
            <a:blip r:embed="rId1"/>
            <a:stretch/>
          </p:blipFill>
          <p:spPr>
            <a:xfrm>
              <a:off x="92160" y="5211720"/>
              <a:ext cx="8886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08000" y="5229360"/>
              <a:ext cx="8856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00000"/>
                  </a:solidFill>
                  <a:latin typeface="Arial"/>
                </a:rPr>
                <a:t>Предупреждение!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се права защищены. Данное пособие защищено авторским правом. Никакая его часть не может быть воспроизведена в какой-либо форме и каким-либо образом, включая копирование, а также не может быть использована в любой информационной системе без разрешения владельцев авторского права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8" descr="logo"/>
          <p:cNvPicPr/>
          <p:nvPr/>
        </p:nvPicPr>
        <p:blipFill>
          <a:blip r:embed="rId2"/>
          <a:stretch/>
        </p:blipFill>
        <p:spPr>
          <a:xfrm>
            <a:off x="79200" y="44280"/>
            <a:ext cx="963720" cy="9637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1042920" y="115920"/>
            <a:ext cx="7489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продуктивной сист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нтогене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179280" y="189000"/>
            <a:ext cx="8785440" cy="64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пособии, состоящем из двух частей, представлены современные данные о развитии репродуктивной системы. В первой части рассматриваются вопросы ее пренатального становления: характеристика индифферентной стадии, факторы, определяющие дифференцировку железы по мужскому или женскому типу, гистофизиология половых органов до рождения плода, нарушения внутриутробного развития половой системы (агенезия и дисгенезия гонад, синдром Шерешевского-Тернера, синдром Клайнфельтера, крипторхизм, аномалии  развития матки и маточных труб, гермафродитизм и др.). Вторая часть пособия посвящена постнатальному развитию репродуктивной системы. В ней подробно описываются гистофизиологические процессы, происходящие в мужских и женских половых органах в препубертатный период, период полового созревания. Текстовый материал сопровождается ситуационными задачами и тестовыми вопросами для самопроверки. Микрофотографии в пособии, не имеющие специальной отметки, сделаны профессором кафедры гистологии, эмбриологии и цитологии, д.м.н. С.В. Диндяевым с гистологических препаратов кафедральной коллекции при помощи цифровой камеры-окуляра модел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C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30 (´1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ценз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. кафедрой патологической анатомии с секционным курсом государственного бюджетного образовательного учреждения высшего профессионального образования «Ивановская государственная медицинская академия» Министерства здравоохранения Российской Федерации, профессор, д.м.н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ина Еле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. кафедрой гистологии, эмбриологии, цитологии государственного бюджетного образовательного учреждения высшего профессионального образования «Курский государственный медицинский университет» Министерства здравоохранения Российской Федерации, профессор, д.м.н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ов Александр Виктор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45352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дяев Сергей Валерьевич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62 г.р., доктор медицинских наук, профессор кафедр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стологии, эмбриологии и цитологии Ивановской государственной медицинской академии, член-корреспондент РА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научное направление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ая морфология биоаминового обеспечения органов женкой репродуктивной системы во время полового цикла и беремен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более 170 научных и учебно-методических работ, ряда изобретений и рационализаторских предлож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10" descr="D:\Мои рисунки\Диндяев С.В фото\IMG_3168в.jpg"/>
          <p:cNvPicPr/>
          <p:nvPr/>
        </p:nvPicPr>
        <p:blipFill>
          <a:blip r:embed="rId1"/>
          <a:stretch/>
        </p:blipFill>
        <p:spPr>
          <a:xfrm>
            <a:off x="5364000" y="1197000"/>
            <a:ext cx="297828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4619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градов Сергей Юрьевич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47 г.р., доктор медицинских наук, профессор, заведующий кафедрой гистологии, эмбриологии и цитологии Ивановской государственной медицинской академии, член-корреспондент РА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научное направление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ая морфология нейромедиаторного биоаминового обеспечения процессов адаптации и гомеостаз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186 научных и 62 учебно-методических работ, 2 изобретений, 44 рационализаторских предлож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7" descr="PB230720"/>
          <p:cNvPicPr/>
          <p:nvPr/>
        </p:nvPicPr>
        <p:blipFill>
          <a:blip r:embed="rId1"/>
          <a:srcRect l="0" t="1038" r="3644" b="0"/>
          <a:stretch/>
        </p:blipFill>
        <p:spPr>
          <a:xfrm>
            <a:off x="5364000" y="1341360"/>
            <a:ext cx="298152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179280" y="333360"/>
            <a:ext cx="871380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е пособие предназначено для студентов лечебного и педиатрического факультетов медицинских вузов, изучающих гистологию, эмбриологию и цитолог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освоения материала, представленного в пособии, обучающийся долже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ные закономерности развития мужской и женской репродуктивных систем человека на основе структурной организации клеток, тканей и органов (ПК-1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ться учебной, научной, научно-популярной литературой, сетью Интернет для профессиональной деятельности (ПК-9, ПК-3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ъяснять характер отклонений в ходе развития, которые могут привести к формированию вариантов аномалий и пороков (ПК-1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дико-анатомическим понятийным аппаратом (ПК-9, 31, 3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C:\Documents and Settings\Андрей\Рабочий стол\Мама\news-example.jpg"/>
          <p:cNvPicPr/>
          <p:nvPr/>
        </p:nvPicPr>
        <p:blipFill>
          <a:blip r:embed="rId1"/>
          <a:stretch/>
        </p:blipFill>
        <p:spPr>
          <a:xfrm>
            <a:off x="23760" y="109440"/>
            <a:ext cx="1841400" cy="1371600"/>
          </a:xfrm>
          <a:prstGeom prst="rect">
            <a:avLst/>
          </a:prstGeom>
          <a:ln w="0">
            <a:noFill/>
          </a:ln>
        </p:spPr>
      </p:pic>
      <p:pic>
        <p:nvPicPr>
          <p:cNvPr id="106" name="Заголовок 1" descr=""/>
          <p:cNvPicPr/>
          <p:nvPr/>
        </p:nvPicPr>
        <p:blipFill>
          <a:blip r:embed="rId2"/>
          <a:stretch/>
        </p:blipFill>
        <p:spPr>
          <a:xfrm>
            <a:off x="1365120" y="219240"/>
            <a:ext cx="7785360" cy="1188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600200"/>
            <a:ext cx="829152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родуктивное здоровье – это состояние полного физического, умственного, сексуального и социального благополучия, а не только отсутствие болезней во всех сферах, касающихся репродуктивной системы, ее функций и процессов (ВОЗ, 1994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а патологии репродуктивной системы – одна из актуальных проблем гинекологии, андрологии и урологии – базируется на знаниях анатомии и гистофизиологии половой системы мужчины и женщи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 человека во многом зависит от начальных периодов онтогенеза, когда происходит закладка, формирование и развитие тканей, органов и их сист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м пособии рассматриваются вопросы развития репродуктивной системы в пренатальный (синонимы: антенатальный и внутриутробный; от момента зачатия до начала родов) и постнатальный (от рождения до 15 лет) периоды онтогенеза человек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1547640" y="1844640"/>
            <a:ext cx="74059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1728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ва в этом окне поместить указатель над заголовком первого раздела и щелкнуть левой кнопкой мыши.  Появится окно изображенное ниже. В этом окне выберите «Только для чтения». На экране Вашего монитора появится презентация с первым разде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5"/>
          <p:cNvGrpSpPr/>
          <p:nvPr/>
        </p:nvGrpSpPr>
        <p:grpSpPr>
          <a:xfrm>
            <a:off x="4175280" y="2565360"/>
            <a:ext cx="4968360" cy="581040"/>
            <a:chOff x="4175280" y="2565360"/>
            <a:chExt cx="4968360" cy="581040"/>
          </a:xfrm>
        </p:grpSpPr>
        <p:sp>
          <p:nvSpPr>
            <p:cNvPr id="110" name="Text Box 6"/>
            <p:cNvSpPr/>
            <p:nvPr/>
          </p:nvSpPr>
          <p:spPr>
            <a:xfrm>
              <a:off x="4241160" y="2565360"/>
              <a:ext cx="490248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Для просмотра тем, следующих за первой, вы должны ввести пароль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</a:rPr>
                <a:t>латинскими буквами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), который получаете после прохождения соответствуюшего теста предыдущего раздела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и выбрать «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», а затем «Только для чтения» .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7"/>
            <p:cNvSpPr/>
            <p:nvPr/>
          </p:nvSpPr>
          <p:spPr>
            <a:xfrm>
              <a:off x="4175280" y="2565360"/>
              <a:ext cx="496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Line 8"/>
          <p:cNvSpPr/>
          <p:nvPr/>
        </p:nvSpPr>
        <p:spPr>
          <a:xfrm flipH="1" flipV="1">
            <a:off x="1116000" y="1988640"/>
            <a:ext cx="433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readq"/>
          <p:cNvPicPr/>
          <p:nvPr/>
        </p:nvPicPr>
        <p:blipFill>
          <a:blip r:embed="rId1"/>
          <a:stretch/>
        </p:blipFill>
        <p:spPr>
          <a:xfrm>
            <a:off x="1476360" y="2492280"/>
            <a:ext cx="2592360" cy="111456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10"/>
          <p:cNvSpPr/>
          <p:nvPr/>
        </p:nvSpPr>
        <p:spPr>
          <a:xfrm rot="14567400">
            <a:off x="3456000" y="3465000"/>
            <a:ext cx="361800" cy="146160"/>
          </a:xfrm>
          <a:prstGeom prst="rightArrow">
            <a:avLst>
              <a:gd name="adj1" fmla="val 32741"/>
              <a:gd name="adj2" fmla="val 1804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1403280" y="1052640"/>
            <a:ext cx="748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 РАБОТЕ ПРОГРАММЫ В ОКНЕ "Предупреждение системы безопасности" ВЫБИРАЙТЕ КНОПКУ "Не отключать макросы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0" y="170028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5a33"/>
                </a:solidFill>
                <a:latin typeface="Times New Roman"/>
              </a:rPr>
              <a:t>Пренаталь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2349360"/>
            <a:ext cx="125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5a33"/>
                </a:solidFill>
                <a:latin typeface="Times New Roman"/>
              </a:rPr>
              <a:t>Постнаталь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5" descr="logo"/>
          <p:cNvPicPr/>
          <p:nvPr/>
        </p:nvPicPr>
        <p:blipFill>
          <a:blip r:embed="rId2"/>
          <a:stretch/>
        </p:blipFill>
        <p:spPr>
          <a:xfrm>
            <a:off x="79200" y="44280"/>
            <a:ext cx="963720" cy="9637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1042920" y="115920"/>
            <a:ext cx="7489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продуктивной сист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нтогене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-36360" y="2900520"/>
            <a:ext cx="143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5a33"/>
                </a:solidFill>
                <a:latin typeface="Times New Roman"/>
              </a:rPr>
              <a:t>Тест на проверку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6:28:47Z</dcterms:created>
  <dc:creator>Сергей</dc:creator>
  <dc:description/>
  <dc:language>en-US</dc:language>
  <cp:lastModifiedBy>uzer</cp:lastModifiedBy>
  <dcterms:modified xsi:type="dcterms:W3CDTF">2014-09-03T17:20:07Z</dcterms:modified>
  <cp:revision>50</cp:revision>
  <dc:subject/>
  <dc:title>Слайд 1</dc:title>
</cp:coreProperties>
</file>