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FFD-EA6C-4200-9B2F-A5E067B6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8DDE-4C94-4537-ABB0-4B7E939C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4198-8905-468C-9848-4B88E9B5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9708-EE9D-4CC7-B62A-A8642F25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9441-D017-426A-804C-33C4BB5A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3433-9582-459E-9255-F6AB631C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08DF-1633-4F28-BDAB-9A97A921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58C4-7D4B-49DA-8EFA-DADE16E2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F541-497D-4272-B27D-57001519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999F-A147-48B5-8D01-41A525E0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BD07-E273-47CB-9BF7-6C1FF259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D50-B0B6-49CC-8A6A-6FA136ED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C9AE-EA57-41E6-B0E1-96788309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BEB0-66D2-4A04-B5AD-A01A8916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3181-9461-4F05-85C4-C5F873EB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E055-C3A8-4864-A025-D994441A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0254-2377-4732-BAB7-0FDFA098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EFA-5B9D-458D-A6F1-A0F9018B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3E6-1080-4440-B978-DB497D1C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11F-B8B9-47A8-ADDC-CB2E4904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35ED-E842-48BE-B267-7CEDD4A4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2F9-72C0-4749-9C15-0008347B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67A3-E5F6-449B-816B-F3301731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A1CA-8FA4-40BC-9396-144C0264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E21B-F66C-427E-83E6-A17D0AF7336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3C3A-2189-489B-9618-AB7460B78CA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900000" y="31338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лектронное   обучающе – контролирующее учебное посо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042920" y="122760"/>
            <a:ext cx="78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сударственное образовательное  учреждение высшего профессионального образования "Ивановская государственная медицинская академи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инистерства здравоохранения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657520" y="125316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Диндяев, С.Ю. Виногра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9640" y="908280"/>
            <a:ext cx="392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федра гистологии, эмбриологии, цит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52280" y="6023160"/>
            <a:ext cx="426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ИвГМА Минздрава РФ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Диндяев С.В., Виноградов С.Ю.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952880" y="6023160"/>
            <a:ext cx="356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ваново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3012, г. Иваново, Шереметевский пр., д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4859280" y="6453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 www.isma.ivanovo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logo"/>
          <p:cNvPicPr/>
          <p:nvPr/>
        </p:nvPicPr>
        <p:blipFill>
          <a:blip r:embed="rId1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D:\Воспитательная работа\ФОТО-воспит\фото академии\1GQlIzroaOk.jpg"/>
          <p:cNvPicPr/>
          <p:nvPr/>
        </p:nvPicPr>
        <p:blipFill>
          <a:blip r:embed="rId2"/>
          <a:srcRect l="0" t="0" r="10444" b="0"/>
          <a:stretch/>
        </p:blipFill>
        <p:spPr>
          <a:xfrm>
            <a:off x="611280" y="4149720"/>
            <a:ext cx="7993080" cy="17319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3"/>
          <p:cNvSpPr/>
          <p:nvPr/>
        </p:nvSpPr>
        <p:spPr>
          <a:xfrm>
            <a:off x="826920" y="198900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900000" y="1452600"/>
            <a:ext cx="734400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Авторы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фессор кафедры гистологии, эмбриологии, цитологии, д.м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ндяев Сергей Вале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в. кафедрой гистологии, эмбриологии, цитологии, профессор, д.м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ноградов Сергей Ю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Авторы электронной версии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.м.н. С.В. Диндяев, к.х.н. В.В. Голубе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79280" y="3789360"/>
            <a:ext cx="878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фотографии сделаны профессором кафедры гистологии, эмбриологии и цитологии, д.м.н. С.В. Диндяевым с гистологических препаратов кафедральной коллекции при помощи цифровой камеры-окуляра модели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ectangle 7"/>
          <p:cNvGrpSpPr/>
          <p:nvPr/>
        </p:nvGrpSpPr>
        <p:grpSpPr>
          <a:xfrm>
            <a:off x="92160" y="5211720"/>
            <a:ext cx="8886600" cy="1109880"/>
            <a:chOff x="92160" y="5211720"/>
            <a:chExt cx="8886600" cy="1109880"/>
          </a:xfrm>
        </p:grpSpPr>
        <p:pic>
          <p:nvPicPr>
            <p:cNvPr id="95" name="Rectangle 7" descr=""/>
            <p:cNvPicPr/>
            <p:nvPr/>
          </p:nvPicPr>
          <p:blipFill>
            <a:blip r:embed="rId1"/>
            <a:stretch/>
          </p:blipFill>
          <p:spPr>
            <a:xfrm>
              <a:off x="92160" y="5211720"/>
              <a:ext cx="8886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08000" y="5229360"/>
              <a:ext cx="8856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</a:rPr>
                <a:t>Предупреждение!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се права защищены. Данное пособие защищено авторским правом. Никакая его часть не может быть воспроизведена в какой-либо форме и каким-либо образом, включая копирование, а также не может быть использована в любой информационной системе без разрешения владельцев авторского прав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8" descr="logo"/>
          <p:cNvPicPr/>
          <p:nvPr/>
        </p:nvPicPr>
        <p:blipFill>
          <a:blip r:embed="rId2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42920" y="11592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79280" y="189000"/>
            <a:ext cx="8785440" cy="64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собии, состоящем из двух частей, представлены современные данные о развитии репродуктивной системы. В первой части рассматриваются вопросы ее пренатального становления: характеристика индифферентной стадии, факторы, определяющие дифференцировку железы по мужскому или женскому типу, гистофизиология половых органов до рождения плода, нарушения внутриутробного развития половой системы (агенезия и дисгенезия гонад, синдром Шерешевского-Тернера, синдром Клайнфельтера, крипторхизм, аномалии  развития матки и маточных труб, гермафродитизм и др.). Вторая часть пособия посвящена постнатальному развитию репродуктивной системы. В ней подробно описываются гистофизиологические процессы, происходящие в мужских и женских половых органах в препубертатный период, период полового созревания. Текстовый материал сопровождается ситуационными задачами и тестовыми вопросами для самопроверки. Микрофотографии в пособии, не имеющие специальной отметки, сделаны профессором кафедры гистологии, эмбриологии и цитологии, д.м.н. С.В. Диндяевым с гистологических препаратов кафедральной коллекции при помощи цифровой камеры-окуляра модел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30 (´1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ценз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 кафедрой патологической анатомии с секционным курсом государственного бюджетного образовательного учреждения высшего профессионального образования «Ивановская государственная медицинская академия» Министерства здравоохранения Российской Федерации, профессор, д.м.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ина Еле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 кафедрой гистологии, эмбриологии, цитологии государственного бюджетного образовательного учреждения высшего профессионального образования «Курский государственный медицинский университет» Министерства здравоохранения Российской Федерации, профессор, д.м.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 Александр Викто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45352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дяев Сергей Валерье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2 г.р., доктор медицинских наук, профессор кафедр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стологии, эмбриологии и цитологии Ивановской государственной медицинской академии, член-корреспондент Р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научное направл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морфология биоаминового обеспечения органов женкой репродуктивной системы во время полового цикла и беремен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более 170 научных и учебно-методических работ, ряда изобретений и рационализаторских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D:\Мои рисунки\Диндяев С.В фото\IMG_3168в.jpg"/>
          <p:cNvPicPr/>
          <p:nvPr/>
        </p:nvPicPr>
        <p:blipFill>
          <a:blip r:embed="rId1"/>
          <a:stretch/>
        </p:blipFill>
        <p:spPr>
          <a:xfrm>
            <a:off x="5364000" y="1197000"/>
            <a:ext cx="29782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градов Сергей Юрье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7 г.р., доктор медицинских наук, профессор, заведующий кафедрой гистологии, эмбриологии и цитологии Ивановской государственной медицинской академии, член-корреспондент Р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научное направл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морфология нейромедиаторного биоаминового обеспечения процессов адаптации и гомеост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186 научных и 62 учебно-методических работ, 2 изобретений, 44 рационализаторских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PB230720"/>
          <p:cNvPicPr/>
          <p:nvPr/>
        </p:nvPicPr>
        <p:blipFill>
          <a:blip r:embed="rId1"/>
          <a:srcRect l="0" t="1038" r="3644" b="0"/>
          <a:stretch/>
        </p:blipFill>
        <p:spPr>
          <a:xfrm>
            <a:off x="5364000" y="1341360"/>
            <a:ext cx="298152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79280" y="333360"/>
            <a:ext cx="87138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пособие предназначено для студентов лечебного и педиатрического факультетов медицинских вузов, изучающих гистологию, эмбриологию и цитоло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освоения материала, представленного в пособии, обучающийся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закономерности развития мужской и женской репродуктивных систем человека на основе структурной организации клеток, тканей и органов (ПК-1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учебной, научной, научно-популярной литературой, сетью Интернет для профессиональной деятельности (ПК-9, ПК-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ять характер отклонений в ходе развития, которые могут привести к формированию вариантов аномалий и пороков (ПК-1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ко-анатомическим понятийным аппаратом (ПК-9, 31, 3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C:\Documents and Settings\Андрей\Рабочий стол\Мама\news-example.jpg"/>
          <p:cNvPicPr/>
          <p:nvPr/>
        </p:nvPicPr>
        <p:blipFill>
          <a:blip r:embed="rId1"/>
          <a:stretch/>
        </p:blipFill>
        <p:spPr>
          <a:xfrm>
            <a:off x="23760" y="109440"/>
            <a:ext cx="18414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1365120" y="219240"/>
            <a:ext cx="7785360" cy="118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915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тивное здоровье – это состояние полного физического, умственного, сексуального и социального благополучия, а не только отсутствие болезней во всех сферах, касающихся репродуктивной системы, ее функций и процессов (ВОЗ, 1994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патологии репродуктивной системы – одна из актуальных проблем гинекологии, андрологии и урологии – базируется на знаниях анатомии и гистофизиологии половой системы мужчины и женщ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человека во многом зависит от начальных периодов онтогенеза, когда происходит закладка, формирование и развитие тканей, органов и их сист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м пособии рассматриваются вопросы развития репродуктивной системы в пренатальный (синонимы: антенатальный и внутриутробный; от момента зачатия до начала родов) и постнатальный (от рождения до 15 лет) периоды онтогенеза челове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547640" y="1844640"/>
            <a:ext cx="7405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1728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ва в этом окне поместить указатель над заголовком первого раздела и щелкнуть левой кнопкой мыши.  Появится окно изображенное ниже. В этом окне выберите «Только для чтения». На экране Вашего монитора появится презентация с первым разд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4175280" y="2565360"/>
            <a:ext cx="4968360" cy="581040"/>
            <a:chOff x="4175280" y="2565360"/>
            <a:chExt cx="4968360" cy="581040"/>
          </a:xfrm>
        </p:grpSpPr>
        <p:sp>
          <p:nvSpPr>
            <p:cNvPr id="110" name="Text Box 6"/>
            <p:cNvSpPr/>
            <p:nvPr/>
          </p:nvSpPr>
          <p:spPr>
            <a:xfrm>
              <a:off x="4241160" y="2565360"/>
              <a:ext cx="49024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Для просмотра тем, следующих за первой, вы должны ввести пароль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</a:rPr>
                <a:t>латинскими буквами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), который получаете после прохождения соответствуюшего теста предыдущего раздела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и выбрать «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», а затем «Только для чтения» .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4175280" y="2565360"/>
              <a:ext cx="49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8"/>
          <p:cNvSpPr/>
          <p:nvPr/>
        </p:nvSpPr>
        <p:spPr>
          <a:xfrm flipH="1" flipV="1">
            <a:off x="1116000" y="1988640"/>
            <a:ext cx="433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readq"/>
          <p:cNvPicPr/>
          <p:nvPr/>
        </p:nvPicPr>
        <p:blipFill>
          <a:blip r:embed="rId1"/>
          <a:stretch/>
        </p:blipFill>
        <p:spPr>
          <a:xfrm>
            <a:off x="1476360" y="2492280"/>
            <a:ext cx="2592360" cy="11145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0"/>
          <p:cNvSpPr/>
          <p:nvPr/>
        </p:nvSpPr>
        <p:spPr>
          <a:xfrm rot="14567400">
            <a:off x="3456000" y="3465000"/>
            <a:ext cx="361800" cy="146160"/>
          </a:xfrm>
          <a:prstGeom prst="rightArrow">
            <a:avLst>
              <a:gd name="adj1" fmla="val 32741"/>
              <a:gd name="adj2" fmla="val 1804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403280" y="1052640"/>
            <a:ext cx="748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РАБОТЕ ПРОГРАММЫ В ОКНЕ "Предупреждение системы безопасности" ВЫБИРАЙТЕ КНОПКУ "Не отключать макросы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0" y="17002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Пренат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2349360"/>
            <a:ext cx="125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Постнат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"/>
          <p:cNvPicPr/>
          <p:nvPr/>
        </p:nvPicPr>
        <p:blipFill>
          <a:blip r:embed="rId2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42920" y="11592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-36360" y="290052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Тест на проверку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6:28:47Z</dcterms:created>
  <dc:creator>Сергей</dc:creator>
  <dc:description/>
  <dc:language>en-US</dc:language>
  <cp:lastModifiedBy>uzer</cp:lastModifiedBy>
  <dcterms:modified xsi:type="dcterms:W3CDTF">2014-09-03T17:20:07Z</dcterms:modified>
  <cp:revision>50</cp:revision>
  <dc:subject/>
  <dc:title>Слайд 1</dc:title>
</cp:coreProperties>
</file>